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8761-47D4-4B32-877A-18241404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DB4-4509-460E-97A5-EEE0809F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CA1-A64E-43B9-B2A4-9CD6625E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0AC-81FB-4FAD-8150-D2DE126B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64BA-AF13-422C-9319-11536BDC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78D5-ECEE-4FF9-829A-7989F6A3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4482-29C7-4F0F-899C-FEC6BB83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8A25-538C-4026-B866-651CECFE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ACF0-D489-4276-BE29-7B640A2B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DB38-4410-4B5C-B6A7-59327E5C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A48D-C958-4A99-BBDD-50B4AF65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CF0-3F23-441A-B817-62B7D596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3015-C73C-49B4-97FA-8DD5361F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49BD-D387-44AC-AC2C-236E6FF3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28F1-1D28-4581-B95A-B0852453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BC28-AA2F-4DCF-B9EB-F764A75C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7AF3-0B8E-4CFA-9642-44A0BDF7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22E-1323-4E88-89BF-9ACE96DE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273-8A5B-4FCF-8FE9-C81E4F0D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152-0493-47EA-B087-57813310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94B-10BC-4635-88E0-5DA7A9FF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7B5-77D9-4EB2-9E69-554D8CB0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B54-3A35-4068-AB5E-BCFA6AC4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C2AA-69AF-4496-A0C6-BEE3C032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925A-EAAC-425D-AE90-3B53CE682DF4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0F05-D5B5-4417-BE85-00739D8F2429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000160" y="1428840"/>
            <a:ext cx="5143680" cy="283608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ffff"/>
                </a:solidFill>
                <a:latin typeface="Arial"/>
              </a:rPr>
              <a:t>ADMINISTRACIÓN DE CONSORCIOS DE P.H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98560" y="5429160"/>
            <a:ext cx="7345440" cy="56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ic. Santiago A. Pontori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80880" y="1285920"/>
            <a:ext cx="3286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as Administ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419720" y="1486080"/>
            <a:ext cx="4352760" cy="56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ubricados en Reg. Pro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S OBLIGA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80880" y="2368440"/>
            <a:ext cx="3286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muneraciones Ord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80880" y="3635280"/>
            <a:ext cx="328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lefón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4697280"/>
            <a:ext cx="328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scens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419720" y="2320920"/>
            <a:ext cx="3809880" cy="103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ubricados en Ministerio de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419720" y="3621240"/>
            <a:ext cx="3809880" cy="56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liado Resol. 335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19720" y="4694400"/>
            <a:ext cx="3809880" cy="56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/ ordenan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3962520" y="1311120"/>
            <a:ext cx="152280" cy="914400"/>
          </a:xfrm>
          <a:custGeom>
            <a:avLst/>
            <a:gdLst>
              <a:gd name="textAreaLeft" fmla="*/ 0 w 152280"/>
              <a:gd name="textAreaRight" fmla="*/ 106920 w 152280"/>
              <a:gd name="textAreaTop" fmla="*/ 61920 h 914400"/>
              <a:gd name="textAreaBottom" fmla="*/ 85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63"/>
                  <a:pt x="21600" y="2925"/>
                </a:cubicBezTo>
                <a:lnTo>
                  <a:pt x="21600" y="18675"/>
                </a:lnTo>
                <a:cubicBezTo>
                  <a:pt x="21600" y="2013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3962520" y="2387520"/>
            <a:ext cx="152280" cy="914400"/>
          </a:xfrm>
          <a:custGeom>
            <a:avLst/>
            <a:gdLst>
              <a:gd name="textAreaLeft" fmla="*/ 0 w 152280"/>
              <a:gd name="textAreaRight" fmla="*/ 106920 w 152280"/>
              <a:gd name="textAreaTop" fmla="*/ 61920 h 914400"/>
              <a:gd name="textAreaBottom" fmla="*/ 85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63"/>
                  <a:pt x="21600" y="2925"/>
                </a:cubicBezTo>
                <a:lnTo>
                  <a:pt x="21600" y="18675"/>
                </a:lnTo>
                <a:cubicBezTo>
                  <a:pt x="21600" y="2013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3962520" y="3443400"/>
            <a:ext cx="152280" cy="914400"/>
          </a:xfrm>
          <a:custGeom>
            <a:avLst/>
            <a:gdLst>
              <a:gd name="textAreaLeft" fmla="*/ 0 w 152280"/>
              <a:gd name="textAreaRight" fmla="*/ 106920 w 152280"/>
              <a:gd name="textAreaTop" fmla="*/ 61920 h 914400"/>
              <a:gd name="textAreaBottom" fmla="*/ 85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63"/>
                  <a:pt x="21600" y="2925"/>
                </a:cubicBezTo>
                <a:lnTo>
                  <a:pt x="21600" y="18675"/>
                </a:lnTo>
                <a:cubicBezTo>
                  <a:pt x="21600" y="2013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3962520" y="4506840"/>
            <a:ext cx="152280" cy="914400"/>
          </a:xfrm>
          <a:custGeom>
            <a:avLst/>
            <a:gdLst>
              <a:gd name="textAreaLeft" fmla="*/ 0 w 152280"/>
              <a:gd name="textAreaRight" fmla="*/ 106920 w 152280"/>
              <a:gd name="textAreaTop" fmla="*/ 61920 h 914400"/>
              <a:gd name="textAreaBottom" fmla="*/ 85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63"/>
                  <a:pt x="21600" y="2925"/>
                </a:cubicBezTo>
                <a:lnTo>
                  <a:pt x="21600" y="18675"/>
                </a:lnTo>
                <a:cubicBezTo>
                  <a:pt x="21600" y="2013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384120" y="5776920"/>
            <a:ext cx="328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gistro de fir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422600" y="5773680"/>
            <a:ext cx="3810240" cy="56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ubricados por R.P.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3965400" y="5586480"/>
            <a:ext cx="152640" cy="914400"/>
          </a:xfrm>
          <a:custGeom>
            <a:avLst/>
            <a:gdLst>
              <a:gd name="textAreaLeft" fmla="*/ 0 w 152640"/>
              <a:gd name="textAreaRight" fmla="*/ 107280 w 152640"/>
              <a:gd name="textAreaTop" fmla="*/ 61920 h 914400"/>
              <a:gd name="textAreaBottom" fmla="*/ 85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63"/>
                  <a:pt x="21600" y="2925"/>
                </a:cubicBezTo>
                <a:lnTo>
                  <a:pt x="21600" y="18675"/>
                </a:lnTo>
                <a:cubicBezTo>
                  <a:pt x="21600" y="2013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44"/>
          <p:cNvGrpSpPr/>
          <p:nvPr/>
        </p:nvGrpSpPr>
        <p:grpSpPr>
          <a:xfrm>
            <a:off x="141120" y="1062000"/>
            <a:ext cx="8921520" cy="5712120"/>
            <a:chOff x="141120" y="1062000"/>
            <a:chExt cx="8921520" cy="5712120"/>
          </a:xfrm>
        </p:grpSpPr>
        <p:sp>
          <p:nvSpPr>
            <p:cNvPr id="124" name="Text Box 6"/>
            <p:cNvSpPr/>
            <p:nvPr/>
          </p:nvSpPr>
          <p:spPr>
            <a:xfrm>
              <a:off x="141120" y="5308560"/>
              <a:ext cx="1332000" cy="91692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Relac. de Dep. Perm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1603440" y="5311800"/>
              <a:ext cx="1332000" cy="91692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s/ Relac. de Dep. no Perm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3078000" y="5308560"/>
              <a:ext cx="1332000" cy="64260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Sistemas Seguro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4554360" y="5308560"/>
              <a:ext cx="1332000" cy="119124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Abonos Técnicos Servicios Edifici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6031080" y="5308560"/>
              <a:ext cx="1331640" cy="119124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Contables Jurídicas Documen-tació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7507440" y="5308560"/>
              <a:ext cx="1331640" cy="146556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Fluir de fondos - Presup. fondos espec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Text Box 13"/>
            <p:cNvSpPr/>
            <p:nvPr/>
          </p:nvSpPr>
          <p:spPr>
            <a:xfrm>
              <a:off x="938160" y="4076640"/>
              <a:ext cx="1187640" cy="64260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Área IV Personal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Text Box 14"/>
            <p:cNvSpPr/>
            <p:nvPr/>
          </p:nvSpPr>
          <p:spPr>
            <a:xfrm>
              <a:off x="3740040" y="4076640"/>
              <a:ext cx="1513080" cy="91692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Área III Contratació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Text Box 15"/>
            <p:cNvSpPr/>
            <p:nvPr/>
          </p:nvSpPr>
          <p:spPr>
            <a:xfrm>
              <a:off x="5956200" y="4076640"/>
              <a:ext cx="1474920" cy="91692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Área II Registració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Text Box 16"/>
            <p:cNvSpPr/>
            <p:nvPr/>
          </p:nvSpPr>
          <p:spPr>
            <a:xfrm>
              <a:off x="7500960" y="4076640"/>
              <a:ext cx="1332000" cy="64260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Área I Financier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34" name="AutoShape 17"/>
            <p:cNvCxnSpPr>
              <a:stCxn id="130" idx="2"/>
              <a:endCxn id="124" idx="0"/>
            </p:cNvCxnSpPr>
            <p:nvPr/>
          </p:nvCxnSpPr>
          <p:spPr>
            <a:xfrm rot="5400000">
              <a:off x="879120" y="4656240"/>
              <a:ext cx="581400" cy="724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5" name="AutoShape 19"/>
            <p:cNvCxnSpPr>
              <a:stCxn id="130" idx="2"/>
              <a:endCxn id="125" idx="0"/>
            </p:cNvCxnSpPr>
            <p:nvPr/>
          </p:nvCxnSpPr>
          <p:spPr>
            <a:xfrm flipH="1" rot="16200000">
              <a:off x="1607760" y="4650120"/>
              <a:ext cx="585000" cy="739080"/>
            </a:xfrm>
            <a:prstGeom prst="bentConnector3">
              <a:avLst>
                <a:gd name="adj1" fmla="val 46674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6" name="AutoShape 20"/>
            <p:cNvCxnSpPr>
              <a:stCxn id="131" idx="2"/>
              <a:endCxn id="126" idx="0"/>
            </p:cNvCxnSpPr>
            <p:nvPr/>
          </p:nvCxnSpPr>
          <p:spPr>
            <a:xfrm rot="5400000">
              <a:off x="3830400" y="4641840"/>
              <a:ext cx="581400" cy="75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7" name="AutoShape 21"/>
            <p:cNvCxnSpPr>
              <a:endCxn id="127" idx="0"/>
            </p:cNvCxnSpPr>
            <p:nvPr/>
          </p:nvCxnSpPr>
          <p:spPr>
            <a:xfrm>
              <a:off x="4497120" y="5013360"/>
              <a:ext cx="724680" cy="2955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8" name="AutoShape 22"/>
            <p:cNvCxnSpPr>
              <a:stCxn id="132" idx="2"/>
              <a:endCxn id="128" idx="0"/>
            </p:cNvCxnSpPr>
            <p:nvPr/>
          </p:nvCxnSpPr>
          <p:spPr>
            <a:xfrm flipH="1" rot="16200000">
              <a:off x="6404760" y="5016240"/>
              <a:ext cx="58140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9" name="AutoShape 23"/>
            <p:cNvCxnSpPr>
              <a:stCxn id="133" idx="2"/>
              <a:endCxn id="129" idx="0"/>
            </p:cNvCxnSpPr>
            <p:nvPr/>
          </p:nvCxnSpPr>
          <p:spPr>
            <a:xfrm flipH="1" rot="16200000">
              <a:off x="7880400" y="5014440"/>
              <a:ext cx="581400" cy="7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40" name="Text Box 24"/>
            <p:cNvSpPr/>
            <p:nvPr/>
          </p:nvSpPr>
          <p:spPr>
            <a:xfrm>
              <a:off x="2967120" y="2349360"/>
              <a:ext cx="3058920" cy="147708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Mandatari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Representante Legal del Consorci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Órgano operativ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41" name="AutoShape 25"/>
            <p:cNvCxnSpPr>
              <a:stCxn id="140" idx="1"/>
              <a:endCxn id="130" idx="0"/>
            </p:cNvCxnSpPr>
            <p:nvPr/>
          </p:nvCxnSpPr>
          <p:spPr>
            <a:xfrm flipV="1" rot="10800000">
              <a:off x="1531080" y="3086280"/>
              <a:ext cx="1435680" cy="989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2" name="AutoShape 26"/>
            <p:cNvCxnSpPr>
              <a:stCxn id="140" idx="2"/>
              <a:endCxn id="131" idx="0"/>
            </p:cNvCxnSpPr>
            <p:nvPr/>
          </p:nvCxnSpPr>
          <p:spPr>
            <a:xfrm flipH="1">
              <a:off x="4496760" y="3825360"/>
              <a:ext cx="1080" cy="251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3" name="AutoShape 27"/>
            <p:cNvCxnSpPr>
              <a:stCxn id="140" idx="3"/>
              <a:endCxn id="132" idx="0"/>
            </p:cNvCxnSpPr>
            <p:nvPr/>
          </p:nvCxnSpPr>
          <p:spPr>
            <a:xfrm>
              <a:off x="6025680" y="3087360"/>
              <a:ext cx="669240" cy="989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4" name="AutoShape 28"/>
            <p:cNvCxnSpPr>
              <a:stCxn id="140" idx="3"/>
              <a:endCxn id="133" idx="0"/>
            </p:cNvCxnSpPr>
            <p:nvPr/>
          </p:nvCxnSpPr>
          <p:spPr>
            <a:xfrm>
              <a:off x="6025680" y="3087360"/>
              <a:ext cx="2142360" cy="989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45" name="Text Box 29"/>
            <p:cNvSpPr/>
            <p:nvPr/>
          </p:nvSpPr>
          <p:spPr>
            <a:xfrm>
              <a:off x="2984400" y="1332000"/>
              <a:ext cx="3024360" cy="78552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Asamblea de Propietario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Órgano Decisori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46" name="AutoShape 30"/>
            <p:cNvCxnSpPr>
              <a:stCxn id="145" idx="2"/>
              <a:endCxn id="140" idx="0"/>
            </p:cNvCxnSpPr>
            <p:nvPr/>
          </p:nvCxnSpPr>
          <p:spPr>
            <a:xfrm flipH="1">
              <a:off x="4496760" y="2120400"/>
              <a:ext cx="1080" cy="229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47" name="Text Box 31"/>
            <p:cNvSpPr/>
            <p:nvPr/>
          </p:nvSpPr>
          <p:spPr>
            <a:xfrm>
              <a:off x="465120" y="1197000"/>
              <a:ext cx="2160720" cy="133416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Consejo de Propietario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Órgano Facultativ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6369120" y="1062000"/>
              <a:ext cx="2376360" cy="160848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Consultores Auditores Operativos Jurídico-Contab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Órgano Auditor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49" name="AutoShape 33"/>
            <p:cNvCxnSpPr>
              <a:stCxn id="147" idx="3"/>
              <a:endCxn id="145" idx="1"/>
            </p:cNvCxnSpPr>
            <p:nvPr/>
          </p:nvCxnSpPr>
          <p:spPr>
            <a:xfrm flipV="1">
              <a:off x="2625840" y="1726920"/>
              <a:ext cx="358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0" name="AutoShape 34"/>
            <p:cNvCxnSpPr>
              <a:stCxn id="148" idx="1"/>
              <a:endCxn id="145" idx="3"/>
            </p:cNvCxnSpPr>
            <p:nvPr/>
          </p:nvCxnSpPr>
          <p:spPr>
            <a:xfrm rot="10800000">
              <a:off x="6008040" y="1726560"/>
              <a:ext cx="361080" cy="5400"/>
            </a:xfrm>
            <a:prstGeom prst="bentConnector3">
              <a:avLst>
                <a:gd name="adj1" fmla="val 497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1" name="AutoShape 35"/>
            <p:cNvCxnSpPr>
              <a:stCxn id="148" idx="3"/>
              <a:endCxn id="133" idx="3"/>
            </p:cNvCxnSpPr>
            <p:nvPr/>
          </p:nvCxnSpPr>
          <p:spPr>
            <a:xfrm>
              <a:off x="8745120" y="1731600"/>
              <a:ext cx="87840" cy="2670840"/>
            </a:xfrm>
            <a:prstGeom prst="bentConnector3">
              <a:avLst>
                <a:gd name="adj1" fmla="val 362962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2" name="AutoShape 36"/>
            <p:cNvCxnSpPr>
              <a:stCxn id="147" idx="2"/>
            </p:cNvCxnSpPr>
            <p:nvPr/>
          </p:nvCxnSpPr>
          <p:spPr>
            <a:xfrm flipH="1" rot="16200000">
              <a:off x="2004840" y="1797840"/>
              <a:ext cx="450000" cy="13690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3" name="AutoShape 39"/>
            <p:cNvCxnSpPr>
              <a:stCxn id="133" idx="1"/>
              <a:endCxn id="132" idx="3"/>
            </p:cNvCxnSpPr>
            <p:nvPr/>
          </p:nvCxnSpPr>
          <p:spPr>
            <a:xfrm flipH="1" flipV="1">
              <a:off x="7431120" y="4401360"/>
              <a:ext cx="702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4" name="AutoShape 40"/>
            <p:cNvCxnSpPr>
              <a:stCxn id="132" idx="1"/>
              <a:endCxn id="131" idx="3"/>
            </p:cNvCxnSpPr>
            <p:nvPr/>
          </p:nvCxnSpPr>
          <p:spPr>
            <a:xfrm flipH="1" flipV="1">
              <a:off x="5252400" y="4401360"/>
              <a:ext cx="7038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5" name="AutoShape 41"/>
            <p:cNvCxnSpPr>
              <a:stCxn id="131" idx="1"/>
              <a:endCxn id="130" idx="3"/>
            </p:cNvCxnSpPr>
            <p:nvPr/>
          </p:nvCxnSpPr>
          <p:spPr>
            <a:xfrm flipH="1" flipV="1">
              <a:off x="2125440" y="4401360"/>
              <a:ext cx="16149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6" name="AutoShape 42"/>
            <p:cNvCxnSpPr>
              <a:stCxn id="148" idx="2"/>
            </p:cNvCxnSpPr>
            <p:nvPr/>
          </p:nvCxnSpPr>
          <p:spPr>
            <a:xfrm rot="5400000">
              <a:off x="6665400" y="1815840"/>
              <a:ext cx="308520" cy="14770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57" name="Text Box 43"/>
          <p:cNvSpPr/>
          <p:nvPr/>
        </p:nvSpPr>
        <p:spPr>
          <a:xfrm>
            <a:off x="457200" y="309600"/>
            <a:ext cx="8229600" cy="52056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ESTRUCTURA ORGANICA DE UN CONSOR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733920" y="1143000"/>
            <a:ext cx="115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562720" y="1003320"/>
            <a:ext cx="228600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 Conso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EXPEN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505320" y="2171880"/>
            <a:ext cx="1380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209760" y="3121200"/>
            <a:ext cx="167652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ado Fro. o ca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286000" y="4127400"/>
            <a:ext cx="260028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municación e inform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562720" y="2031840"/>
            <a:ext cx="175248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egales Gen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562720" y="3193920"/>
            <a:ext cx="1904760" cy="4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 Siste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5562720" y="4205160"/>
            <a:ext cx="1143000" cy="4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5181480" y="1143000"/>
            <a:ext cx="152640" cy="519120"/>
          </a:xfrm>
          <a:custGeom>
            <a:avLst/>
            <a:gdLst>
              <a:gd name="textAreaLeft" fmla="*/ 0 w 152640"/>
              <a:gd name="textAreaRight" fmla="*/ 107280 w 152640"/>
              <a:gd name="textAreaTop" fmla="*/ 34920 h 519120"/>
              <a:gd name="textAreaBottom" fmla="*/ 48420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63"/>
                  <a:pt x="21600" y="2925"/>
                </a:cubicBezTo>
                <a:lnTo>
                  <a:pt x="21600" y="18675"/>
                </a:lnTo>
                <a:cubicBezTo>
                  <a:pt x="21600" y="2013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5181480" y="2133720"/>
            <a:ext cx="152640" cy="546120"/>
          </a:xfrm>
          <a:custGeom>
            <a:avLst/>
            <a:gdLst>
              <a:gd name="textAreaLeft" fmla="*/ 0 w 152640"/>
              <a:gd name="textAreaRight" fmla="*/ 107280 w 152640"/>
              <a:gd name="textAreaTop" fmla="*/ 36720 h 546120"/>
              <a:gd name="textAreaBottom" fmla="*/ 50940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63"/>
                  <a:pt x="21600" y="2925"/>
                </a:cubicBezTo>
                <a:lnTo>
                  <a:pt x="21600" y="18675"/>
                </a:lnTo>
                <a:cubicBezTo>
                  <a:pt x="21600" y="2013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AutoShape 13"/>
          <p:cNvSpPr/>
          <p:nvPr/>
        </p:nvSpPr>
        <p:spPr>
          <a:xfrm>
            <a:off x="5181480" y="3174840"/>
            <a:ext cx="152640" cy="546120"/>
          </a:xfrm>
          <a:custGeom>
            <a:avLst/>
            <a:gdLst>
              <a:gd name="textAreaLeft" fmla="*/ 0 w 152640"/>
              <a:gd name="textAreaRight" fmla="*/ 107280 w 152640"/>
              <a:gd name="textAreaTop" fmla="*/ 36720 h 546120"/>
              <a:gd name="textAreaBottom" fmla="*/ 50940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63"/>
                  <a:pt x="21600" y="2925"/>
                </a:cubicBezTo>
                <a:lnTo>
                  <a:pt x="21600" y="18675"/>
                </a:lnTo>
                <a:cubicBezTo>
                  <a:pt x="21600" y="2013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14"/>
          <p:cNvSpPr/>
          <p:nvPr/>
        </p:nvSpPr>
        <p:spPr>
          <a:xfrm>
            <a:off x="5181480" y="4191120"/>
            <a:ext cx="152640" cy="546120"/>
          </a:xfrm>
          <a:custGeom>
            <a:avLst/>
            <a:gdLst>
              <a:gd name="textAreaLeft" fmla="*/ 0 w 152640"/>
              <a:gd name="textAreaRight" fmla="*/ 107280 w 152640"/>
              <a:gd name="textAreaTop" fmla="*/ 36720 h 546120"/>
              <a:gd name="textAreaBottom" fmla="*/ 50940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63"/>
                  <a:pt x="21600" y="2925"/>
                </a:cubicBezTo>
                <a:lnTo>
                  <a:pt x="21600" y="18675"/>
                </a:lnTo>
                <a:cubicBezTo>
                  <a:pt x="21600" y="2013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5181480" y="5181480"/>
            <a:ext cx="152640" cy="546120"/>
          </a:xfrm>
          <a:custGeom>
            <a:avLst/>
            <a:gdLst>
              <a:gd name="textAreaLeft" fmla="*/ 0 w 152640"/>
              <a:gd name="textAreaRight" fmla="*/ 107280 w 152640"/>
              <a:gd name="textAreaTop" fmla="*/ 36720 h 546120"/>
              <a:gd name="textAreaBottom" fmla="*/ 50940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63"/>
                  <a:pt x="21600" y="2925"/>
                </a:cubicBezTo>
                <a:lnTo>
                  <a:pt x="21600" y="18675"/>
                </a:lnTo>
                <a:cubicBezTo>
                  <a:pt x="21600" y="2013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5181480" y="6159600"/>
            <a:ext cx="152640" cy="546120"/>
          </a:xfrm>
          <a:custGeom>
            <a:avLst/>
            <a:gdLst>
              <a:gd name="textAreaLeft" fmla="*/ 0 w 152640"/>
              <a:gd name="textAreaRight" fmla="*/ 107280 w 152640"/>
              <a:gd name="textAreaTop" fmla="*/ 36720 h 546120"/>
              <a:gd name="textAreaBottom" fmla="*/ 50940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63"/>
                  <a:pt x="21600" y="2925"/>
                </a:cubicBezTo>
                <a:lnTo>
                  <a:pt x="21600" y="18675"/>
                </a:lnTo>
                <a:cubicBezTo>
                  <a:pt x="21600" y="2013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5562720" y="4915080"/>
            <a:ext cx="266688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centuales     S/ reglamento “A” Creación de “B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5562720" y="6172200"/>
            <a:ext cx="3047760" cy="4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dros explicat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971800" y="5219640"/>
            <a:ext cx="1914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iquid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3429000" y="6197760"/>
            <a:ext cx="1457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ex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380880" y="3683160"/>
            <a:ext cx="1676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22"/>
          <p:cNvSpPr/>
          <p:nvPr/>
        </p:nvSpPr>
        <p:spPr>
          <a:xfrm flipH="1">
            <a:off x="2209680" y="1104840"/>
            <a:ext cx="152640" cy="5639040"/>
          </a:xfrm>
          <a:custGeom>
            <a:avLst/>
            <a:gdLst>
              <a:gd name="textAreaLeft" fmla="*/ 0 w 152640"/>
              <a:gd name="textAreaRight" fmla="*/ 107280 w 152640"/>
              <a:gd name="textAreaTop" fmla="*/ 73440 h 5639040"/>
              <a:gd name="textAreaBottom" fmla="*/ 5565600 h 563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83"/>
                  <a:pt x="21600" y="565"/>
                </a:cubicBezTo>
                <a:lnTo>
                  <a:pt x="21600" y="21035"/>
                </a:lnTo>
                <a:cubicBezTo>
                  <a:pt x="21600" y="2131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914400" y="2490840"/>
            <a:ext cx="328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rmas de liquid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4952880" y="1800360"/>
            <a:ext cx="2210040" cy="198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Re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delant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uota f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ix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EXPEN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914400" y="4890960"/>
            <a:ext cx="328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esen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952880" y="4597560"/>
            <a:ext cx="2210040" cy="108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Con rub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Sin rub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AutoShape 11"/>
          <p:cNvSpPr/>
          <p:nvPr/>
        </p:nvSpPr>
        <p:spPr>
          <a:xfrm flipH="1">
            <a:off x="4495680" y="1714680"/>
            <a:ext cx="152640" cy="2108160"/>
          </a:xfrm>
          <a:custGeom>
            <a:avLst/>
            <a:gdLst>
              <a:gd name="textAreaLeft" fmla="*/ 0 w 152640"/>
              <a:gd name="textAreaRight" fmla="*/ 107280 w 152640"/>
              <a:gd name="textAreaTop" fmla="*/ 76680 h 2108160"/>
              <a:gd name="textAreaBottom" fmla="*/ 2031480 h 21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89"/>
                  <a:pt x="21600" y="1578"/>
                </a:cubicBezTo>
                <a:lnTo>
                  <a:pt x="21600" y="20022"/>
                </a:lnTo>
                <a:cubicBezTo>
                  <a:pt x="21600" y="20811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12"/>
          <p:cNvSpPr/>
          <p:nvPr/>
        </p:nvSpPr>
        <p:spPr>
          <a:xfrm flipH="1">
            <a:off x="4495680" y="4699080"/>
            <a:ext cx="152640" cy="914400"/>
          </a:xfrm>
          <a:custGeom>
            <a:avLst/>
            <a:gdLst>
              <a:gd name="textAreaLeft" fmla="*/ 0 w 152640"/>
              <a:gd name="textAreaRight" fmla="*/ 107280 w 152640"/>
              <a:gd name="textAreaTop" fmla="*/ 61920 h 914400"/>
              <a:gd name="textAreaBottom" fmla="*/ 85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63"/>
                  <a:pt x="21600" y="2925"/>
                </a:cubicBezTo>
                <a:lnTo>
                  <a:pt x="21600" y="18675"/>
                </a:lnTo>
                <a:cubicBezTo>
                  <a:pt x="21600" y="2013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ORDENANZ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898560" y="1219320"/>
            <a:ext cx="7345440" cy="564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lderas y termotanques: 36.677/77 – 36.128 – 37.470 – 37.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actador de residuos: 39.0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atafuegos: 40.473/8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evención de incendios: 45.425/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impieza de tanques de agua: 45.593/9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emplazo y recubrimiento puertas tijera rellanos: 46.2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servación ascensores: 49.308/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ORDENANZ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898560" y="1219320"/>
            <a:ext cx="7345440" cy="517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máforos en garages: 41.76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iduos - limpieza de veredas: 33.58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effff"/>
                </a:solidFill>
                <a:latin typeface="Arial"/>
              </a:rPr>
              <a:t>O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ód. Edificación: pasamanos, fachadas, toldos, buzone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.N.R.E: Resolución 207/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ey 257: Conservación de las ob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EY 135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898560" y="1219320"/>
            <a:ext cx="7345440" cy="540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rtes comu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centu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piedad priv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 innovación o modificación (facha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viv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 construir nuevos pisos o excav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xpensas obligato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EY 135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830160" y="1428840"/>
            <a:ext cx="7483680" cy="47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pietario puede realizar expen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dacción de Reglamento de Copropi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ambl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dor es Mandat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. de asegurar contra incen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rucción o vetustez del edif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deuda es a la un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REGLAM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366920" y="1849320"/>
            <a:ext cx="6408720" cy="516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4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copropie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Reda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scrip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4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os: Fijan nor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4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íficos: Actividades particula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752480" y="309600"/>
            <a:ext cx="5639040" cy="52056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CONSEJO DE PROPIET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04920" y="1523880"/>
            <a:ext cx="8534160" cy="59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4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tribuciones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De colabo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e aseso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e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4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imitaciones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No substituye al Administr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arece de personería para actu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No tiene facultades ejecu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ASAMBL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981080" y="1384200"/>
            <a:ext cx="5181840" cy="513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3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rtes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Constitu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eliver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esolu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9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vocatoria: s/ reglam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9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lases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Ordin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xtraordin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udi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ASAMBL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04840" y="1800360"/>
            <a:ext cx="6934320" cy="409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3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Quorum: no mayor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2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ul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Quien no f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Quien no haya votado a fav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Quien se abstu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2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presentaciones: Fija el reglam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6"/>
          <p:cNvSpPr/>
          <p:nvPr/>
        </p:nvSpPr>
        <p:spPr>
          <a:xfrm>
            <a:off x="669960" y="2286000"/>
            <a:ext cx="7802640" cy="29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60000"/>
              </a:lnSpc>
              <a:spcBef>
                <a:spcPts val="2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areas administrati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60000"/>
              </a:lnSpc>
              <a:spcBef>
                <a:spcPts val="2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omaban decisiones de emerg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60000"/>
              </a:lnSpc>
              <a:spcBef>
                <a:spcPts val="2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levaban libro de actas y administ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A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00120" y="1600200"/>
            <a:ext cx="3971880" cy="47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dministr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dm. de pers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t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mposi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Juríd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c. de da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800600" y="1600200"/>
            <a:ext cx="3971880" cy="448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onómico - Finan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écn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oma de deci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unicaciones e in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lanifi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gra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FUNCIONES ACTU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8:58:38Z</dcterms:created>
  <dc:creator>Daniel Cirigliano</dc:creator>
  <dc:description/>
  <dc:language>en-US</dc:language>
  <cp:lastModifiedBy>Daniel Cirigliano</cp:lastModifiedBy>
  <dcterms:modified xsi:type="dcterms:W3CDTF">2010-04-06T14:56:12Z</dcterms:modified>
  <cp:revision>35</cp:revision>
  <dc:subject/>
  <dc:title>Diapositiva 1</dc:title>
</cp:coreProperties>
</file>